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916-7182-4939-97FC-AA410D72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C90-BAC3-459E-A9F5-2BC3E54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1D3-EFEC-486F-A79D-0000B012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481-26C4-4772-AEF3-746CBD21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05E-4DB4-4038-9468-EE19E57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CC0-DD64-4FBA-B09A-5EFE8B2A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EF6-F732-419B-9C5C-DF2C115E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6A1-C917-4AC8-A77E-3866876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62B-845B-4645-8E4C-5E2061F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5B8-DA76-4263-A406-F896794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769-1F10-4164-8D36-4307490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404-9FFA-4FC9-8DD6-2508F60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B6BCA-614A-4034-B798-209405173D1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15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9600" spc="-1" strike="noStrike" u="sng">
                <a:solidFill>
                  <a:srgbClr val="fb5b0b"/>
                </a:solidFill>
                <a:uFillTx/>
                <a:latin typeface="Comic Sans MS"/>
              </a:rPr>
              <a:t>Vznik  Země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vypracovali: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Tomáš Novotný, Tomáš Polák, Michaela Polanská, Kristýna Vaš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00360" y="185760"/>
            <a:ext cx="306072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20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80996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00360" y="615960"/>
            <a:ext cx="30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5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864072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00360" y="360360"/>
            <a:ext cx="377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459640" cy="521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6159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0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0" y="6159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5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809964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0360" y="8143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0996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45080" y="814320"/>
            <a:ext cx="1800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čas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000" y="179280"/>
            <a:ext cx="594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znik Země-SOUČAST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6440" y="816120"/>
            <a:ext cx="5878440" cy="144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5440" y="212256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3480" y="1795320"/>
            <a:ext cx="217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96960" y="979560"/>
            <a:ext cx="509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mě se pořád vyvíjí a dalo by se říct,že vzniká dá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320" y="1959120"/>
            <a:ext cx="2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320" y="2122560"/>
            <a:ext cx="2610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yšuje se hladina oceán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440" y="2938320"/>
            <a:ext cx="163440" cy="16380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2320" y="2938320"/>
            <a:ext cx="2521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čínají být aktivní sop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5440" y="375444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2320" y="4572000"/>
            <a:ext cx="3100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šechny kontinenty se posunuj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440" y="457200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2320" y="3755880"/>
            <a:ext cx="1474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ění se 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55920" y="3903840"/>
            <a:ext cx="40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40856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9760" y="5079960"/>
            <a:ext cx="5040000" cy="16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92440" y="2612880"/>
            <a:ext cx="3429000" cy="113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74880" y="142920"/>
            <a:ext cx="2917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pa světa-SOUČAST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6680" y="490680"/>
            <a:ext cx="2938320" cy="1440"/>
          </a:xfrm>
          <a:prstGeom prst="line">
            <a:avLst/>
          </a:prstGeom>
          <a:ln w="72000">
            <a:solidFill>
              <a:srgbClr val="ae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8880" y="979560"/>
            <a:ext cx="8501040" cy="506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79280"/>
            <a:ext cx="767556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DĚKUJEME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1866960"/>
            <a:ext cx="180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Z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82840"/>
            <a:ext cx="864072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VAŠI                 POZORNO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19640" y="1619280"/>
            <a:ext cx="36576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Z a č á t e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obné hmotné částice a plyny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hromného oblaku okolo mladé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 Slunce se pospojoval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ily vnitřní kamen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nety. Díky gravitaci se obj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ěchto těles neustále zvětšo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Impact"/>
              </a:rPr>
              <a:t>Zah</a:t>
            </a:r>
            <a:r>
              <a:rPr b="1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ří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41936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76920" y="1980720"/>
            <a:ext cx="35812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nárazu s jinou planetou vznikl satelit Země – Měsíc. Nitro planety se neustálými dalšími nárazy a rozpadem radioaktivních prvků zahřívalo. Těžké roztavené prvky klesly ke středu planety (vytvořily jádro), lehčí vystoupily k povrch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fb5b0b"/>
                </a:solidFill>
                <a:uFillTx/>
                <a:latin typeface="Impact"/>
              </a:rPr>
              <a:t>V y c h l a d n u t 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3322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971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se zvol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chlazovala, vytvář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evná vrstva hor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zemská kůra).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ních plynů i z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ynů vyvržený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pečnou erupcí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ubin vznikl ko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plynn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al – atmosfé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6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U s t á l e n 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267440" cy="3584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79640" y="19796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razů do Země ubýva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ek Země se rozdělil na já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láštˇ. Vodní pára v atmosfé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denzovala a v podobě de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adala na planetu: dí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né“ teplotě zůstala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kutém skupenství a vznik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ceány. Prostředí by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praveno pro živ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360360"/>
            <a:ext cx="792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4400" spc="-1" strike="noStrike" u="sng">
                <a:solidFill>
                  <a:srgbClr val="804c19"/>
                </a:solidFill>
                <a:uFillTx/>
                <a:latin typeface="Times New Roman"/>
              </a:rPr>
              <a:t>Vznik 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hoří vznikají vlivem tektonického pohybu litosférických desek a jejich vzájemnou kolizí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2519280"/>
            <a:ext cx="59403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360360"/>
            <a:ext cx="845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dcff"/>
                </a:solidFill>
                <a:latin typeface="Times New Roman"/>
              </a:rPr>
              <a:t>             </a:t>
            </a:r>
            <a:r>
              <a:rPr b="1" lang="cs-CZ" sz="4400" spc="-1" strike="noStrike" u="sng">
                <a:solidFill>
                  <a:srgbClr val="00dcff"/>
                </a:solidFill>
                <a:uFillTx/>
                <a:latin typeface="Times New Roman"/>
              </a:rPr>
              <a:t>Vznik oceá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si, když se vytvářela Země, tak tu pršelo na Zemi 100 let. 100 let pršelo a vytvářela se mezi tím, fáze kdy to byli jenom kapičky ledu, později déšť bez nějaké soli, a pak se vytvořil klasický déš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774072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720" y="539640"/>
            <a:ext cx="7740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00ae00"/>
                </a:solidFill>
                <a:uFillTx/>
                <a:latin typeface="Times New Roman"/>
              </a:rPr>
              <a:t>PANG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960" y="1619280"/>
            <a:ext cx="4667400" cy="485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00720" y="2519280"/>
            <a:ext cx="287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o jeden z prvních kontinentů se utvořil kontinent Pang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0720" y="3600360"/>
            <a:ext cx="37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ngea měla tvar písmen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0720" y="3959280"/>
            <a:ext cx="341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la obrovskou rozlohu, a proto byla ve vnitrozemí hodně such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4680000" cy="321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19640" y="3484440"/>
            <a:ext cx="468000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59280" y="539640"/>
            <a:ext cx="41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3060720"/>
            <a:ext cx="3240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pohybu litosférických desek se během historie Země kontinenty přesouvaly a rozpada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40360" y="360360"/>
            <a:ext cx="37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Zemi tehdy vládli veleještěři, kteří vážili (40-80 tun). Jejich kosterní pozůstatky dodnes nahánějí hrůz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0360" y="1874880"/>
            <a:ext cx="2895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ngea se rozpadla na dvě části Lauresii (sever)a Gondwanu (ji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3960" y="5089680"/>
            <a:ext cx="3505320" cy="1569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7:32:46Z</dcterms:created>
  <dc:creator>host</dc:creator>
  <dc:description/>
  <dc:language>en-US</dc:language>
  <cp:lastModifiedBy>host</cp:lastModifiedBy>
  <dcterms:modified xsi:type="dcterms:W3CDTF">2015-05-04T18:20:49Z</dcterms:modified>
  <cp:revision>11</cp:revision>
  <dc:subject/>
  <dc:title>Vznik  Země        vypracovali: Tomáš Novotný , Tomáš Polák Michaela Polanská , Kristýna Vašková</dc:title>
</cp:coreProperties>
</file>